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9512-75DB-4B67-B764-57C55DEA877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A31C-2AB8-434B-8CE8-A2497CA08FB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A125-342D-4999-8CE0-C9796F212A0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7EC4-01A0-4919-A495-2A586B3D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334-2407-4DF0-B07C-52CF1150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593E-CD05-4B8B-A6D5-8940CA44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5889-FFB5-40DE-8F39-69E326DB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AEAF-0B4E-4319-881A-8092C6F4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345A-21A5-4029-AF89-A5FCC13B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1A38-23F8-49A1-90B2-D09EC02C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7711-F2BC-49D7-9B96-A75941F9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1BE5-A15F-4F58-A7B1-79D6857A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83CE-F60B-4DBC-8271-1B6CA891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12ED-D3F5-45B4-BB79-483E660C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A0F4-A55C-4825-BA39-4F5DE5DF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5912-4C3C-47C9-A631-F52C8A9B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2987-43E7-4082-959C-E2A1B169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C184-D862-4743-B839-6F790EC4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C0F4-61D4-4B9C-AEC4-E896D425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61E3-3E0D-4A60-92B0-E8A889E5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6782-F96E-4264-8CE3-EFC32E7F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56D-99CE-41AE-8E6C-79F4AA47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A6F0-4D50-4BA0-93FB-863050A9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B49C-C25F-4140-983C-2A5DECCD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556F-EEE8-47AE-874A-0ED14C63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FE63-2BED-4B3F-ABD2-1EA4E0FD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1AED-D70B-438B-8337-DA2E6680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6EEA-9DCC-4674-BF5C-264CD4EED08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07F5-9D32-4311-AE8D-DEC61804EFFE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764640"/>
            <a:ext cx="4716360" cy="26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emokracja ateńska w czasach Perykles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3200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zabella Lankos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http://www.ceo.org.pl/sites/default/files/KOSS/davGallery/KOSS_zajawki_2/demokracja.jpg"/>
          <p:cNvPicPr/>
          <p:nvPr/>
        </p:nvPicPr>
        <p:blipFill>
          <a:blip r:embed="rId1"/>
          <a:stretch/>
        </p:blipFill>
        <p:spPr>
          <a:xfrm>
            <a:off x="4859280" y="1557360"/>
            <a:ext cx="43102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eryk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25000"/>
            <a:ext cx="38275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erykles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teński mąż stanu, świetny wódz i zdolny mówca, pochodzący (przez matkę Agarystę) z arystokratycznego rodu Alkmeonidów (syn Ksantyposa, kuzyn Klejstenes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perykles"/>
          <p:cNvPicPr/>
          <p:nvPr/>
        </p:nvPicPr>
        <p:blipFill>
          <a:blip r:embed="rId1"/>
          <a:stretch/>
        </p:blipFill>
        <p:spPr>
          <a:xfrm>
            <a:off x="4618080" y="1108080"/>
            <a:ext cx="337824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odel funkcjonowania demokracji ateńskiej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www.widzew_stoki.republika.pl/klasa_I/pliki/ustroj_Aten.jpg"/>
          <p:cNvPicPr/>
          <p:nvPr/>
        </p:nvPicPr>
        <p:blipFill>
          <a:blip r:embed="rId1"/>
          <a:stretch/>
        </p:blipFill>
        <p:spPr>
          <a:xfrm>
            <a:off x="324000" y="1341360"/>
            <a:ext cx="813744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emokracja ateńska- wad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560" y="1125000"/>
            <a:ext cx="4537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bywateli ( posiadających prawa) było  ok. 40 tys. na 250 tys. Ateńczyków. A więc czy na pewno rządziła większość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bywatelami byli jedynie wolni mężczyźni, którzy ukończyli 20 lat i mają oboje rodziców Ateńczyków, natomiast kobiety, niewolnicy, wyzwoleńcy i metojkowie (osiedleni w Atenach cudzoziemcy) byli na marginesie życia polityczneg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onadto zgromadzenia obywateli odbywały się kilka razy w miesiącu i często wiązały się z wysokimi kosztami dojazdów, a część obywateli musiała większość czasu poświęcać na pracę zawodową. Dlatego więc wielu z nich nie brało czynnego udziału w życiu polityczny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ąd skorupkowy na wygnanie lub śmierć skazywał też wybitnych ludzi – Sokrat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emagodzy i sykofanci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http://blog-wszystko-tematyczny.blog.onet.pl/files/2012/11/demoskratos.jpg"/>
          <p:cNvPicPr/>
          <p:nvPr/>
        </p:nvPicPr>
        <p:blipFill>
          <a:blip r:embed="rId1"/>
          <a:stretch/>
        </p:blipFill>
        <p:spPr>
          <a:xfrm>
            <a:off x="4765680" y="1125360"/>
            <a:ext cx="412920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Śmierć Sokrates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http://www.galeria.malarstwa.pl/obrazy/1110929.jpg"/>
          <p:cNvPicPr/>
          <p:nvPr/>
        </p:nvPicPr>
        <p:blipFill>
          <a:blip r:embed="rId1"/>
          <a:stretch/>
        </p:blipFill>
        <p:spPr>
          <a:xfrm>
            <a:off x="250920" y="1341360"/>
            <a:ext cx="4871880" cy="331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ttp://info-poster.eu/wp-content/uploads/2012/06/sokrates.jpeg"/>
          <p:cNvPicPr/>
          <p:nvPr/>
        </p:nvPicPr>
        <p:blipFill>
          <a:blip r:embed="rId2"/>
          <a:stretch/>
        </p:blipFill>
        <p:spPr>
          <a:xfrm>
            <a:off x="5435640" y="1271520"/>
            <a:ext cx="34783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404640"/>
            <a:ext cx="46195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olność działa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rupcja (łapówki, przekupstwa) – Fidiasz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rak stabilności rzą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nflikty między siłami politycznymi oraz ich zwolennika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chwianie pierwotnych założeń demokracji np. wolności -szykanowanie za wiarę, sposób by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ww.paulina.friko.pl/atena%20partenos-fidiasz.jpg"/>
          <p:cNvPicPr/>
          <p:nvPr/>
        </p:nvPicPr>
        <p:blipFill>
          <a:blip r:embed="rId1"/>
          <a:stretch/>
        </p:blipFill>
        <p:spPr>
          <a:xfrm>
            <a:off x="5292720" y="260280"/>
            <a:ext cx="2600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emokracja zale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danie obywatelom praw do wolności osobistej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ówności wobec praw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dea wolności osobistej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dea wolności  słow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zeroki dostęp do urzęd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pływ obywateli na władzę w państw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iety dla najuboższych</a:t>
            </a:r>
            <a:br>
              <a:rPr sz="3200"/>
            </a:b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620280"/>
            <a:ext cx="5051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ażdy obywatel ma prawo wyboru, do odwołania się od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zadawalającej decyzji it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rządek, ustalenie odpowiednich praw, które przyczyniają się do sprawnego funkcjonowania w państwi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udzenie zainteresowań politycznych mieszkańców pol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większenie aktywności obywate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zwój kultury i myśli filozoficzn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emokracja bezpośrednia </a:t>
            </a:r>
            <a:br>
              <a:rPr sz="2400"/>
            </a:b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ttp://fotoforum.gazeta.pl/photo/5/oi/qh/fmgs/5Y3DQKSltbdoNkhohX.jpg"/>
          <p:cNvPicPr/>
          <p:nvPr/>
        </p:nvPicPr>
        <p:blipFill>
          <a:blip r:embed="rId1"/>
          <a:stretch/>
        </p:blipFill>
        <p:spPr>
          <a:xfrm>
            <a:off x="5357880" y="765000"/>
            <a:ext cx="3503520" cy="262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://upload.wikimedia.org/wikipedia/commons/thumb/a/a1/Athens_Roman_Agora_4-2004_1.JPG/300px-Athens_Roman_Agora_4-2004_1.JPG"/>
          <p:cNvPicPr/>
          <p:nvPr/>
        </p:nvPicPr>
        <p:blipFill>
          <a:blip r:embed="rId2"/>
          <a:stretch/>
        </p:blipFill>
        <p:spPr>
          <a:xfrm>
            <a:off x="5435640" y="3749760"/>
            <a:ext cx="310176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ole tekstowe 7"/>
          <p:cNvSpPr/>
          <p:nvPr/>
        </p:nvSpPr>
        <p:spPr>
          <a:xfrm>
            <a:off x="611280" y="549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bliograf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8"/>
          <p:cNvSpPr/>
          <p:nvPr/>
        </p:nvSpPr>
        <p:spPr>
          <a:xfrm>
            <a:off x="755640" y="119700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ww.portalwiedzy.onet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galeria.malarstwa.pl/obraz,929,smierc-Sokratesa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antiquitates.blox.pl/tagi_b/4086/Ateny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info-poster.eu/?attachment_id=45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paulina.friko.pl/artysci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blog-wszystko-tematyczny.blog.onet.pl/2012/11/07/demokracja-regulowa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tos</cp:lastModifiedBy>
  <dcterms:modified xsi:type="dcterms:W3CDTF">2013-06-14T06:25:44Z</dcterms:modified>
  <cp:revision>15</cp:revision>
  <dc:subject/>
  <dc:title>Slajd 1</dc:title>
</cp:coreProperties>
</file>